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2E43-E5E0-49E6-ACF5-A41B4B76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72D-4485-4751-A215-CAEBA383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ED88-45F6-4636-B7F4-1F733D57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84E-8C51-4082-9B76-5A67FBF3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A875-8657-40A1-BA25-17131D5D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51AE-6C9E-47C8-BC53-077AA39A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0BD9-6FF9-461F-9732-3C464134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BF02-A758-4AC2-A683-C2D7CE98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0D8B-E9A1-496E-9D6E-1650F377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C2E2-AD66-4F9B-A9EC-71A3A049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302F-FEEB-4712-AA2A-70778E82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3B3-96C6-42B9-A8AC-D7416C09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CB3C-47AF-4B8F-B919-6E7C8FF3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B37B-DAAD-400B-BB50-B59E5527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8FE7-C0FA-4185-8DC8-F7D0A09A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687C-47BB-403D-A1B5-539B2541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4E2A-ED1E-4B23-9ACB-9B020BCC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756-51FA-48F0-B3AA-6758C122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0E5-5049-4F3B-8132-2B0ACDD9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844-49A1-497A-8013-7A1A34A8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F624-D9B3-4352-A8C7-451175D3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BE4D-9C8D-43B1-AA40-DB06230D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1B9-B530-44DC-BB5D-D9894B53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1A9-1107-4B33-939A-308E4162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8DF1-3559-4A20-BCC4-FE63E2214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B925-E190-4940-9AE5-2B76E0899D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enguin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Morgan Shock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70160" y="2446200"/>
            <a:ext cx="460224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Do you like penguins?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3581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guins live in Antarctica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uins’ spring is in Septemb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934320" y="3809880"/>
            <a:ext cx="11937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guins protect themselves in the snow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uins have to eat healthy food. Penguins  feed their babies everyday.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03800" y="2819520"/>
            <a:ext cx="304020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guins eat fish, krill, and squid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uins have to jump in the water. The penguins lay their eg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by penguins live in the eg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nguins are bi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0120" y="4191120"/>
            <a:ext cx="11937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nguins are cool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44800" y="2440080"/>
            <a:ext cx="145440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8:54:46Z</dcterms:modified>
  <cp:revision>6</cp:revision>
  <dc:subject/>
  <dc:title>Animal Name</dc:title>
</cp:coreProperties>
</file>